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2A4E-2109-4796-B95D-DAF1EFBC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9FEB-7F67-4DAA-8E45-8D905BA8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5DB5-45B3-41BA-9BD0-DEAB451E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4375-426E-47CE-8864-427D46E0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79B9-CFFA-4446-B1ED-0A72E103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042B-76CE-4B54-AC93-EFB1B4E1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340F-8B19-4040-AED5-8D6C5C08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87F1-B6B4-4113-A931-DF325C8D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D717-6693-4B26-B264-8371A0B6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B82D-8521-464B-9B9E-07E24C83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637A-B34F-42C2-B593-38BE444A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F757-0AF6-44BD-8620-63570869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148D-9A05-44B5-BFDE-73C74F82C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wanda.williams\My Documents\My Pictures\Microsoft Clip Organizer\j032374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"/>
          <p:cNvSpPr/>
          <p:nvPr/>
        </p:nvSpPr>
        <p:spPr>
          <a:xfrm rot="16200000">
            <a:off x="5295600" y="3314160"/>
            <a:ext cx="3962520" cy="31240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248520" y="3429000"/>
            <a:ext cx="20574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Here lies Ebenezer Scoo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He  doesn’t deserve a crown because he never came 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C:\Documents and Settings\wanda.williams\Local Settings\Temporary Internet Files\Content.IE5\LX2YN4OC\MCBD07752_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2"/>
          <p:cNvSpPr/>
          <p:nvPr/>
        </p:nvSpPr>
        <p:spPr>
          <a:xfrm rot="16200000">
            <a:off x="5598000" y="3164400"/>
            <a:ext cx="3662640" cy="266724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6400800" y="3124080"/>
            <a:ext cx="2057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Here lies Ebenezer Scoo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An old   siner who turned into a gi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25:11Z</dcterms:created>
  <dc:creator>wanda.williams</dc:creator>
  <dc:description/>
  <dc:language>en-US</dc:language>
  <cp:lastModifiedBy>Shaan</cp:lastModifiedBy>
  <dcterms:modified xsi:type="dcterms:W3CDTF">2009-12-10T01:07:02Z</dcterms:modified>
  <cp:revision>7</cp:revision>
  <dc:subject/>
  <dc:title>Slide 1</dc:title>
</cp:coreProperties>
</file>